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15.gif" ContentType="image/gif"/>
  <Override PartName="/ppt/media/image2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3.gif" ContentType="image/gif"/>
  <Override PartName="/ppt/media/image6.png" ContentType="image/png"/>
  <Override PartName="/ppt/media/image7.gif" ContentType="image/gif"/>
  <Override PartName="/ppt/media/image12.gif" ContentType="image/gif"/>
  <Override PartName="/ppt/media/image5.gif" ContentType="image/gif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DD40-0ECD-4803-A0B9-EFC1740A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E7EE-5241-4763-8D82-B65E5999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2B5-C68A-40BE-8EF1-94744357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174-048C-4CF1-96AD-832E5E08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C1A-080C-4528-85AA-92813721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3CC-4070-4CBD-AD10-9A8BCD1C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52F-F6B2-499A-AE4B-9631768A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B76-A764-442D-A9D2-0318066F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274-7245-4665-9A32-796E5982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C65-80E4-4F90-8AE0-D6E3001A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371-2130-4744-898A-DEEA839E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525-7C7E-443F-9260-635490A7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E821-502F-40D7-A3EA-08286E75465C}" type="datetime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10C5-8F0E-4FF3-944B-C4544DE5A7D6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2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3" Type="http://schemas.openxmlformats.org/officeDocument/2006/relationships/hyperlink" Target="http://www.google.co.th/imgres?imgurl=http://www.dailynews.co.th/content/images/1106/10/newspaper/p3thurl.jpg&amp;imgrefurl=http://www.dailynews.co.th/web/index.cfm?page=content&amp;categoryId=23&amp;contentId=144169&amp;h=345&amp;w=260&amp;sz=62&amp;tbnid=SCBmkJzUqWkaDM:&amp;tbnh=259&amp;tbnw=195&amp;prev=/search?q=&#3616;&#3634;&#3614;&#3648;&#3619;&#3639;&#3629;&#3609;&#3635;&#3605;&#3634;&#3621;&#3621;&#3656;&#3617;&amp;tbm=isch&amp;tbo=u&amp;zoom=1&amp;q=&#3616;&#3634;&#3614;&#3648;&#3619;&#3639;&#3629;&#3609;&#3635;&#3605;&#3634;&#3621;&#3621;&#3656;&#3617;&amp;hl=th&amp;usg=__7bALbJa9KzoADQuOVS-hElwUAgo=&amp;sa=X&amp;ei=NOf_TbabEInTrQeKl8SzDQ&amp;ved=0CBwQ9QEwA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14200" y="428760"/>
            <a:ext cx="8715600" cy="22885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ารประชุมปฏิบัติการเสริมสร้างความรู้ ความเข้าใจเกี่ยวก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ระบบการควบคุมภายในของสถานศึกษ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ณ ห้องประชุมจตุรมิต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วันอังคารที่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7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กรกฏาคม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2555 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วลา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13.0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 – 16.30 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น</a:t>
            </a:r>
            <a:r>
              <a:rPr b="0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30040" y="3286080"/>
            <a:ext cx="4810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th-TH" sz="2400" spc="-1" strike="noStrike">
                <a:solidFill>
                  <a:srgbClr val="ff0000"/>
                </a:solidFill>
                <a:latin typeface="Tahoma"/>
                <a:cs typeface="Tahoma"/>
              </a:rPr>
              <a:t>สาระความรู้ กฎหมาย ระเบียบ นโยบ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Tahoma"/>
                <a:cs typeface="Tahoma"/>
              </a:rPr>
              <a:t>แนวปฏิบัติเกี่ยวกับการควบคุมภายใ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ตัวยึดหมายเลขภาพนิ่ง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B2E0-94E1-47E5-8754-52490C6844F1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600" y="630000"/>
            <a:ext cx="7929720" cy="7268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0456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ือ กระบวนการที่เป็นระบบในการบริหารปัจจัยและควบคุมกิจกรรมทั้งกระบวนการการดำเนินการต่าง ๆ เพื่อลดมูลเหตุของโอกาสที่จะทำให้เกิดความเสียหายจากการดำเนินการที่ไม่เป็นไปตามแผน เพื่อให้ระดับของความเสี่ยงและผลกระทบที่จะเกิดขึ้นในอนาคตอยู่ในระดับที่สามารถยอมรับได้ ควบคุมได้ และตรวจสอบได้อย่างเป็นระบ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ที่มา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ahoma"/>
              </a:rPr>
              <a:t>: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คู่มือคำอธิบาย ตัวชี้วัดฯ ก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พ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ร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ปี งปม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. 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cs typeface="Tahoma"/>
              </a:rPr>
              <a:t>๒๕๕๔</a:t>
            </a:r>
            <a:r>
              <a:rPr b="0" lang="th-TH" sz="20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ตัวยึดหมายเลขภาพนิ่ง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74A2-3D5D-4AAC-B43F-61E24DFF5CEC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00040" y="357120"/>
            <a:ext cx="3786120" cy="520560"/>
          </a:xfrm>
          <a:prstGeom prst="rect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71680" y="1000080"/>
            <a:ext cx="78580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ความ ว่า กิจกรรมการให้ความเชื่อมั่นและการให้คำปรึกษาอย่างเที่ยงธรรมและเป็นอิสระซึ่งจัดให้มีขึ้นเพื่อเพิ่มคุณค่าและปรับปรุงการปฏิบัติงานของส่วนราชการให้ดีขึ้น การตรวจสอบภายในจะช่วยให้ส่วนราชการบรรลุถึงเป้าหมายและวัตถุประสงค์ที่กำหนดไว้ด้วยการประเมินและปรับปรุงประสิทธิผลของกระบวนการบริหารความเสี่ยง การควบคุมและการกำกับดูแลอย่างเป็นระบ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(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ระเบียบ กค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ว่าด้วยการตรวจสอบภายในส่วนราชการ พ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ศ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. 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๒๕๕๑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,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cs typeface="Tahoma"/>
              </a:rPr>
              <a:t>ข้อ ๔</a:t>
            </a:r>
            <a:r>
              <a:rPr b="0" lang="th-TH" sz="1800" spc="-1" strike="noStrike">
                <a:solidFill>
                  <a:srgbClr val="c00000"/>
                </a:solidFill>
                <a:latin typeface="Tahoma"/>
                <a:ea typeface="Tahoma"/>
              </a:rPr>
              <a:t>)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men42"/>
          <p:cNvPicPr/>
          <p:nvPr/>
        </p:nvPicPr>
        <p:blipFill>
          <a:blip r:embed="rId1"/>
          <a:stretch/>
        </p:blipFill>
        <p:spPr>
          <a:xfrm>
            <a:off x="7429680" y="5357880"/>
            <a:ext cx="1000080" cy="103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642960" y="5143680"/>
            <a:ext cx="6072120" cy="1373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ถือเป็นกลไกหนึ่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่จะช่วยผลักดันให้เกิดการควบคุมภายในและการบริหารความเสี่ยงที่เหมาะส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257D-ABFF-4D8E-A490-8ED506C6F61B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สี่เหลี่ยมมุมมน 3"/>
          <p:cNvSpPr/>
          <p:nvPr/>
        </p:nvSpPr>
        <p:spPr>
          <a:xfrm>
            <a:off x="1357200" y="2357280"/>
            <a:ext cx="2286000" cy="150048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ควบคุม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สี่เหลี่ยมมุมมน 4"/>
          <p:cNvSpPr/>
          <p:nvPr/>
        </p:nvSpPr>
        <p:spPr>
          <a:xfrm>
            <a:off x="5214960" y="2286000"/>
            <a:ext cx="2214720" cy="15717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สี่เหลี่ยมมุมมน 5"/>
          <p:cNvSpPr/>
          <p:nvPr/>
        </p:nvSpPr>
        <p:spPr>
          <a:xfrm>
            <a:off x="3143160" y="4643280"/>
            <a:ext cx="2643120" cy="15004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1071720" y="527040"/>
            <a:ext cx="7429320" cy="9471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ความสัมพันธ์ของการควบคุมภายใ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บริหารความเสี่ยง และ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ลูกศรขวา 7"/>
          <p:cNvSpPr/>
          <p:nvPr/>
        </p:nvSpPr>
        <p:spPr>
          <a:xfrm>
            <a:off x="3929040" y="2643120"/>
            <a:ext cx="977760" cy="21456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ลูกศรซ้าย 9"/>
          <p:cNvSpPr/>
          <p:nvPr/>
        </p:nvSpPr>
        <p:spPr>
          <a:xfrm>
            <a:off x="3929040" y="3000240"/>
            <a:ext cx="977760" cy="214560"/>
          </a:xfrm>
          <a:prstGeom prst="leftArrow">
            <a:avLst>
              <a:gd name="adj1" fmla="val 50000"/>
              <a:gd name="adj2" fmla="val 4993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ลูกศรขึ้น 10"/>
          <p:cNvSpPr/>
          <p:nvPr/>
        </p:nvSpPr>
        <p:spPr>
          <a:xfrm>
            <a:off x="4357800" y="3429000"/>
            <a:ext cx="142920" cy="97776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7438680" y="6215040"/>
            <a:ext cx="14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มมาต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,2555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ตัวยึดหมายเลขภาพนิ่ง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6EA6-6E5B-4B2F-A4AE-24124D5B7A54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>
            <a:hlinkClick r:id="rId1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>
            <a:hlinkClick r:id="rId2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3"/>
          </p:cNvPr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12680" y="-27000"/>
            <a:ext cx="140004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1307189395"/>
          <p:cNvPicPr/>
          <p:nvPr/>
        </p:nvPicPr>
        <p:blipFill>
          <a:blip r:embed="rId4"/>
          <a:stretch/>
        </p:blipFill>
        <p:spPr>
          <a:xfrm>
            <a:off x="-36360" y="-27000"/>
            <a:ext cx="9288360" cy="69105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539640" y="2994120"/>
            <a:ext cx="8353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ffff"/>
                </a:solidFill>
                <a:latin typeface="Tahoma"/>
                <a:cs typeface="Tahoma"/>
              </a:rPr>
              <a:t>ความเสี่ยง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1" lang="en-US" sz="3200" spc="-1" strike="noStrike">
                <a:solidFill>
                  <a:srgbClr val="00ffff"/>
                </a:solidFill>
                <a:latin typeface="Tahoma"/>
                <a:ea typeface="Tahoma"/>
              </a:rPr>
              <a:t>: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  <a:ea typeface="Tahoma"/>
              </a:rPr>
              <a:t> </a:t>
            </a:r>
            <a:r>
              <a:rPr b="1" lang="th-TH" sz="3200" spc="-1" strike="noStrike">
                <a:solidFill>
                  <a:srgbClr val="00ffff"/>
                </a:solidFill>
                <a:latin typeface="Tahoma"/>
                <a:cs typeface="Tahoma"/>
              </a:rPr>
              <a:t>เหตุการณ์ที่ทำให้งานไม่สำเร็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82560" y="907920"/>
            <a:ext cx="7777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ภารกิจหลักของเรื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รับจ้างบรรทุกน้ำตาลไปส่งจุดหมา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39640" y="1557360"/>
            <a:ext cx="8425080" cy="8254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วัตถุประสงค์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ป้าหมาย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เพื่อนำน้ำตาลทราย จำนวน ๒พันตัน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  ไป ส่งถึงจุดหมายภายในเวลากำหน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71120" y="189000"/>
            <a:ext cx="7624080" cy="581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8000"/>
                </a:solidFill>
                <a:latin typeface="Tahoma"/>
                <a:ea typeface="Tahoma"/>
              </a:rPr>
              <a:t>“</a:t>
            </a:r>
            <a:r>
              <a:rPr b="1" lang="th-TH" sz="3200" spc="-1" strike="noStrike">
                <a:solidFill>
                  <a:srgbClr val="008000"/>
                </a:solidFill>
                <a:latin typeface="Tahoma"/>
                <a:cs typeface="Tahoma"/>
              </a:rPr>
              <a:t>เรือชนตอม่อสะพานล่มขวางลำน้ำเจ้าพระยา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00120" y="3933720"/>
            <a:ext cx="800424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ระบุปัจจัยเสี่ยง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ัจจัยภายใน </a:t>
            </a:r>
            <a:r>
              <a:rPr b="1" lang="th-TH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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กระบวนการทำ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   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ปัจจัยภายนอก </a:t>
            </a:r>
            <a:r>
              <a:rPr b="1" lang="th-TH" sz="2400" spc="-1" strike="noStrike">
                <a:solidFill>
                  <a:srgbClr val="ffff00"/>
                </a:solidFill>
                <a:latin typeface="Wingdings 3"/>
                <a:ea typeface="Wingdings 3"/>
              </a:rPr>
              <a:t>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ภัยธรรมชาต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    “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cs typeface="Tahoma"/>
              </a:rPr>
              <a:t>ค้นหาต้นเหตุ สาเหตุ”</a:t>
            </a:r>
            <a:r>
              <a:rPr b="1" lang="th-TH" sz="2400" spc="-1" strike="noStrike">
                <a:solidFill>
                  <a:srgbClr val="ffff00"/>
                </a:solidFill>
                <a:latin typeface="Tahoma"/>
                <a:ea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66560" y="5877000"/>
            <a:ext cx="8569440" cy="825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บริหารความเสี่ยง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หลังเกิดความสูญเสีย กำหนดมาตร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cc3300"/>
                </a:solidFill>
                <a:latin typeface="Tahoma"/>
                <a:ea typeface="Tahoma"/>
              </a:rPr>
              <a:t>           </a:t>
            </a:r>
            <a:r>
              <a:rPr b="1" lang="th-TH" sz="2400" spc="-1" strike="noStrike">
                <a:solidFill>
                  <a:srgbClr val="cc3300"/>
                </a:solidFill>
                <a:latin typeface="Tahoma"/>
                <a:cs typeface="Tahoma"/>
              </a:rPr>
              <a:t>การควบคุมเพิ่มเติมที่มีประสิทธิภาพ ไม่ให้เกิดขึ้นอี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95280" y="5300640"/>
            <a:ext cx="86407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วิเคราะห์ความเสี่ยง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1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กิดความเสียหายมูลค่าสูง ผลกระทบมา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ตัวยึดหมายเลขภาพนิ่ง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063B-2CB5-4B3A-9505-4E3CCE5A04BD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สี่เหลี่ยมมุมมน 3"/>
          <p:cNvSpPr/>
          <p:nvPr/>
        </p:nvSpPr>
        <p:spPr>
          <a:xfrm>
            <a:off x="428760" y="1643040"/>
            <a:ext cx="2786040" cy="200016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้นหา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ศึกษาจากอดี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สำรวจในปัจจุบั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เฝ้าระวังไปข้างหน้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สี่เหลี่ยมมุมมน 4"/>
          <p:cNvSpPr/>
          <p:nvPr/>
        </p:nvSpPr>
        <p:spPr>
          <a:xfrm>
            <a:off x="3714840" y="1714680"/>
            <a:ext cx="1714320" cy="1214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00000"/>
                </a:solidFill>
                <a:latin typeface="Tahoma"/>
                <a:cs typeface="Tahoma"/>
              </a:rPr>
              <a:t>ประเมิ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c00000"/>
                </a:solidFill>
                <a:latin typeface="Tahoma"/>
                <a:cs typeface="Tahoma"/>
              </a:rPr>
              <a:t>ความเสี่ย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สี่เหลี่ยมมุมมน 5"/>
          <p:cNvSpPr/>
          <p:nvPr/>
        </p:nvSpPr>
        <p:spPr>
          <a:xfrm>
            <a:off x="6072120" y="1643040"/>
            <a:ext cx="2286000" cy="2214720"/>
          </a:xfrm>
          <a:prstGeom prst="roundRect">
            <a:avLst>
              <a:gd name="adj" fmla="val 16667"/>
            </a:avLst>
          </a:prstGeom>
          <a:solidFill>
            <a:srgbClr val="3333ff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วบคุมความเส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ยอมรั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ล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ควบคุ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โอน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กระจา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ยุด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ea typeface="Tahoma"/>
              </a:rPr>
              <a:t>/</a:t>
            </a:r>
            <a:r>
              <a:rPr b="0" lang="th-TH" sz="2000" spc="-1" strike="noStrike">
                <a:solidFill>
                  <a:srgbClr val="ffffff"/>
                </a:solidFill>
                <a:latin typeface="Tahoma"/>
                <a:cs typeface="Tahoma"/>
              </a:rPr>
              <a:t>หลีกเลี่ย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ลูกศรขวา 6"/>
          <p:cNvSpPr/>
          <p:nvPr/>
        </p:nvSpPr>
        <p:spPr>
          <a:xfrm>
            <a:off x="3357720" y="214308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ลูกศรขวา 7"/>
          <p:cNvSpPr/>
          <p:nvPr/>
        </p:nvSpPr>
        <p:spPr>
          <a:xfrm>
            <a:off x="5643720" y="2214720"/>
            <a:ext cx="357120" cy="3571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วงรี 8"/>
          <p:cNvSpPr/>
          <p:nvPr/>
        </p:nvSpPr>
        <p:spPr>
          <a:xfrm>
            <a:off x="3357720" y="4929120"/>
            <a:ext cx="2428560" cy="9288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ffffff"/>
            </a:solidFill>
            <a:miter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มินผลระบ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ลูกศรเชื่อมต่อแบบตรง 10"/>
          <p:cNvCxnSpPr>
            <a:stCxn id="128" idx="0"/>
          </p:cNvCxnSpPr>
          <p:nvPr/>
        </p:nvCxnSpPr>
        <p:spPr>
          <a:xfrm flipV="1">
            <a:off x="4572000" y="2928600"/>
            <a:ext cx="2160" cy="20008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0" name="ลูกศรเชื่อมต่อแบบตรง 12"/>
          <p:cNvCxnSpPr/>
          <p:nvPr/>
        </p:nvCxnSpPr>
        <p:spPr>
          <a:xfrm>
            <a:off x="4643280" y="3357720"/>
            <a:ext cx="1286640" cy="216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1" name="ลูกศรเชื่อมต่อแบบตรง 14"/>
          <p:cNvCxnSpPr/>
          <p:nvPr/>
        </p:nvCxnSpPr>
        <p:spPr>
          <a:xfrm flipH="1" flipV="1">
            <a:off x="5857200" y="5428440"/>
            <a:ext cx="1429560" cy="252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cxnSp>
        <p:nvCxnSpPr>
          <p:cNvPr id="132" name="ลูกศรเชื่อมต่อแบบตรง 16"/>
          <p:cNvCxnSpPr/>
          <p:nvPr/>
        </p:nvCxnSpPr>
        <p:spPr>
          <a:xfrm flipV="1">
            <a:off x="1711800" y="3644640"/>
            <a:ext cx="2520" cy="17150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arrow" w="med"/>
          </a:ln>
        </p:spPr>
      </p:cxnSp>
      <p:sp>
        <p:nvSpPr>
          <p:cNvPr id="133" name="ตัวเชื่อมต่อตรง 18"/>
          <p:cNvSpPr/>
          <p:nvPr/>
        </p:nvSpPr>
        <p:spPr>
          <a:xfrm>
            <a:off x="1714680" y="5357880"/>
            <a:ext cx="1643040" cy="3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ตัวเชื่อมต่อตรง 22"/>
          <p:cNvSpPr/>
          <p:nvPr/>
        </p:nvSpPr>
        <p:spPr>
          <a:xfrm flipV="1">
            <a:off x="7286760" y="3930480"/>
            <a:ext cx="1440" cy="1500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4"/>
          <p:cNvSpPr/>
          <p:nvPr/>
        </p:nvSpPr>
        <p:spPr>
          <a:xfrm>
            <a:off x="1500120" y="571680"/>
            <a:ext cx="6542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แนวปฏิบัติการบริหารความเสี่ยง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ตัวยึดหมายเลขภาพนิ่ง 1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4D92-A6FA-47F6-95AA-685BB4B1DD0C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Text Box 3"/>
          <p:cNvGrpSpPr/>
          <p:nvPr/>
        </p:nvGrpSpPr>
        <p:grpSpPr>
          <a:xfrm>
            <a:off x="755640" y="3809880"/>
            <a:ext cx="7486560" cy="1305000"/>
            <a:chOff x="755640" y="3809880"/>
            <a:chExt cx="7486560" cy="1305000"/>
          </a:xfrm>
        </p:grpSpPr>
        <p:pic>
          <p:nvPicPr>
            <p:cNvPr id="138" name="Text Box 3" descr=""/>
            <p:cNvPicPr/>
            <p:nvPr/>
          </p:nvPicPr>
          <p:blipFill>
            <a:blip r:embed="rId1"/>
            <a:stretch/>
          </p:blipFill>
          <p:spPr>
            <a:xfrm>
              <a:off x="755640" y="3809880"/>
              <a:ext cx="7486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990720" y="4046400"/>
              <a:ext cx="7010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“ </a:t>
              </a: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ความสำเร็จของการควบคุมภายใ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Tahoma"/>
                  <a:cs typeface="Tahoma"/>
                </a:rPr>
                <a:t>เกิดจากความร่วมมือ ร่วมใจของทุกคนในองค์กร 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3"/>
          <p:cNvSpPr/>
          <p:nvPr/>
        </p:nvSpPr>
        <p:spPr>
          <a:xfrm>
            <a:off x="3348720" y="53593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3600" spc="-1" strike="noStrike">
                <a:solidFill>
                  <a:srgbClr val="ff0000"/>
                </a:solidFill>
                <a:latin typeface="Tahoma"/>
                <a:cs typeface="Tahoma"/>
              </a:rPr>
              <a:t>สวัสดีครั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handshake"/>
          <p:cNvPicPr/>
          <p:nvPr/>
        </p:nvPicPr>
        <p:blipFill>
          <a:blip r:embed="rId2"/>
          <a:stretch/>
        </p:blipFill>
        <p:spPr>
          <a:xfrm>
            <a:off x="3714840" y="1714680"/>
            <a:ext cx="1477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4"/>
          <p:cNvSpPr/>
          <p:nvPr/>
        </p:nvSpPr>
        <p:spPr>
          <a:xfrm>
            <a:off x="1071720" y="1214280"/>
            <a:ext cx="7429320" cy="2226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วัตถุประสงค์หลักของการบริหารองค์กรทีดี คือการติดตาม กำกับ ควบคุมและดูแล ให้มีการจัดกระบวนการเพื่อใช้ทรัพยากรให้มีประสิทธิภาพ ตรงเป้าหมาย คุ้มค่าและประหยัด เพื่อให้เกิดประโยชน์สูงสุดต่อผู้มีส่วนเกี่ยวข้อง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86000" y="285840"/>
            <a:ext cx="428616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องค์กรที่ด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1071720" y="3857760"/>
            <a:ext cx="7358040" cy="2226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รากฐานที่จะช่วยให้มีการกำกับ ดูแล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ี่ดี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ควบคุม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บริหารความเสี่ย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*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ตรวจสอบภายใ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jager010"/>
          <p:cNvPicPr/>
          <p:nvPr/>
        </p:nvPicPr>
        <p:blipFill>
          <a:blip r:embed="rId1"/>
          <a:stretch/>
        </p:blipFill>
        <p:spPr>
          <a:xfrm>
            <a:off x="7858080" y="5214960"/>
            <a:ext cx="581040" cy="1238400"/>
          </a:xfrm>
          <a:prstGeom prst="rect">
            <a:avLst/>
          </a:prstGeom>
          <a:ln w="0">
            <a:noFill/>
          </a:ln>
        </p:spPr>
      </p:pic>
      <p:sp>
        <p:nvSpPr>
          <p:cNvPr id="48" name="ตัวยึดหมายเลขภาพนิ่ง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3FEC-E4C6-4FB4-B79D-53A3A5463631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9720" y="533160"/>
            <a:ext cx="7458120" cy="895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การควบคุมภายใน 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Internal Control</a:t>
            </a:r>
            <a:r>
              <a:rPr b="0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904760"/>
            <a:ext cx="7891560" cy="22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ถึง  กระบวนการที่ผู้กำกับดูแล ฝ่ายบริหารและบุคลากรทุกระดับของหน่วยรับตรวจ กำหนดให้มีขึ้นเพื่อให้มีความมั่นใจอย่างสมเหตุสมผลว่าการดำเนินงานจะบรรลุผลสำเร็จตามวัตถุประสงค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j0172578"/>
          <p:cNvPicPr/>
          <p:nvPr/>
        </p:nvPicPr>
        <p:blipFill>
          <a:blip r:embed="rId2"/>
          <a:stretch/>
        </p:blipFill>
        <p:spPr>
          <a:xfrm>
            <a:off x="4357800" y="4357800"/>
            <a:ext cx="1143000" cy="1401480"/>
          </a:xfrm>
          <a:prstGeom prst="rect">
            <a:avLst/>
          </a:prstGeom>
          <a:ln w="0">
            <a:noFill/>
          </a:ln>
        </p:spPr>
      </p:pic>
      <p:sp>
        <p:nvSpPr>
          <p:cNvPr id="52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CE14-F6D6-44C8-9D6B-70FD4FF0284F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5360" y="380880"/>
            <a:ext cx="8343720" cy="1109880"/>
          </a:xfrm>
          <a:prstGeom prst="rect">
            <a:avLst/>
          </a:prstGeom>
          <a:ln w="0">
            <a:noFill/>
          </a:ln>
        </p:spPr>
      </p:pic>
      <p:sp>
        <p:nvSpPr>
          <p:cNvPr id="54" name="สี่เหลี่ยมผืนผ้า 3"/>
          <p:cNvSpPr/>
          <p:nvPr/>
        </p:nvSpPr>
        <p:spPr>
          <a:xfrm>
            <a:off x="571680" y="178596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1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ประสิทธิผลและประสิทธิภาพขอ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ารดำเนินงาน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 Operation Objectives = o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สี่เหลี่ยมผืนผ้า 4"/>
          <p:cNvSpPr/>
          <p:nvPr/>
        </p:nvSpPr>
        <p:spPr>
          <a:xfrm>
            <a:off x="500040" y="2903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2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ความเชื่อถือได้ของการรา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ทางการเงิน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Financial Reporting Objectives = 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สี่เหลี่ยมผืนผ้า 5"/>
          <p:cNvSpPr/>
          <p:nvPr/>
        </p:nvSpPr>
        <p:spPr>
          <a:xfrm>
            <a:off x="357120" y="414324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3.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ให้เกิดการปฏิบัติตามกฎหมายและระเบีย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ข้อบังคับที่เกี่ยวข้อง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Tahoma"/>
              </a:rPr>
              <a:t>Compliance Objectives =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computers5"/>
          <p:cNvPicPr/>
          <p:nvPr/>
        </p:nvPicPr>
        <p:blipFill>
          <a:blip r:embed="rId2"/>
          <a:stretch/>
        </p:blipFill>
        <p:spPr>
          <a:xfrm>
            <a:off x="3929040" y="5286240"/>
            <a:ext cx="1343160" cy="1238400"/>
          </a:xfrm>
          <a:prstGeom prst="rect">
            <a:avLst/>
          </a:prstGeom>
          <a:ln w="0">
            <a:noFill/>
          </a:ln>
        </p:spPr>
      </p:pic>
      <p:sp>
        <p:nvSpPr>
          <p:cNvPr id="58" name="ตัวยึดหมายเลขภาพนิ่ง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EF59-36C1-4ED8-8F90-6FA38CD5E266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54120" y="533520"/>
            <a:ext cx="8032680" cy="963360"/>
          </a:xfrm>
          <a:prstGeom prst="rect">
            <a:avLst/>
          </a:prstGeom>
          <a:ln w="0">
            <a:noFill/>
          </a:ln>
        </p:spPr>
      </p:pic>
      <p:sp>
        <p:nvSpPr>
          <p:cNvPr id="60" name="สี่เหลี่ยมผืนผ้า 3"/>
          <p:cNvSpPr/>
          <p:nvPr/>
        </p:nvSpPr>
        <p:spPr>
          <a:xfrm>
            <a:off x="1005480" y="2209680"/>
            <a:ext cx="663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70c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70c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70c0"/>
                </a:solidFill>
                <a:latin typeface="Tahoma"/>
                <a:cs typeface="Tahoma"/>
              </a:rPr>
              <a:t>แทรกหรือแฝงอยู่ในการปฏิบัติงานตามปก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สี่เหลี่ยมผืนผ้า 4"/>
          <p:cNvSpPr/>
          <p:nvPr/>
        </p:nvSpPr>
        <p:spPr>
          <a:xfrm>
            <a:off x="838080" y="2951280"/>
            <a:ext cx="746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บุคลากรทุกระดับมีส่วนร่วมในการทำให้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การควบคุมภายใน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สี่เหลี่ยมผืนผ้า 5"/>
          <p:cNvSpPr/>
          <p:nvPr/>
        </p:nvSpPr>
        <p:spPr>
          <a:xfrm>
            <a:off x="1161360" y="4191120"/>
            <a:ext cx="58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ให้ความมั่นใจอย่างสมเหตุสมผลเท่านั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breakerman"/>
          <p:cNvPicPr/>
          <p:nvPr/>
        </p:nvPicPr>
        <p:blipFill>
          <a:blip r:embed="rId2"/>
          <a:stretch/>
        </p:blipFill>
        <p:spPr>
          <a:xfrm>
            <a:off x="4143240" y="521496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64" name="ตัวยึดหมายเลขภาพนิ่ง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6562-0D4B-4641-BDB2-FB245A21AB11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0280" y="311040"/>
            <a:ext cx="8083440" cy="1060560"/>
          </a:xfrm>
          <a:prstGeom prst="rect">
            <a:avLst/>
          </a:prstGeom>
          <a:ln w="0">
            <a:noFill/>
          </a:ln>
        </p:spPr>
      </p:pic>
      <p:sp>
        <p:nvSpPr>
          <p:cNvPr id="66" name="สี่เหลี่ยมผืนผ้า 1"/>
          <p:cNvSpPr/>
          <p:nvPr/>
        </p:nvSpPr>
        <p:spPr>
          <a:xfrm>
            <a:off x="530280" y="1676520"/>
            <a:ext cx="79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1.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ลดความผิดพลาด ความเสียหาย ที่อา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สี่เหลี่ยมผืนผ้า 2"/>
          <p:cNvSpPr/>
          <p:nvPr/>
        </p:nvSpPr>
        <p:spPr>
          <a:xfrm>
            <a:off x="531720" y="2371680"/>
            <a:ext cx="85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6600"/>
                </a:solidFill>
                <a:latin typeface="Tahoma"/>
                <a:ea typeface="Tahoma"/>
              </a:rPr>
              <a:t>2.  </a:t>
            </a:r>
            <a:r>
              <a:rPr b="0" lang="th-TH" sz="2800" spc="-1" strike="noStrike">
                <a:solidFill>
                  <a:srgbClr val="006600"/>
                </a:solidFill>
                <a:latin typeface="Tahoma"/>
                <a:cs typeface="Tahoma"/>
              </a:rPr>
              <a:t>ใช้ทรัพยากรอย่างคุ้มค่า โปร่งใส ตรวจสอบได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สี่เหลี่ยมผืนผ้า 3"/>
          <p:cNvSpPr/>
          <p:nvPr/>
        </p:nvSpPr>
        <p:spPr>
          <a:xfrm>
            <a:off x="533520" y="3124080"/>
            <a:ext cx="67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3.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ส่งผลให้ระบบงานต่าง ๆ มีคุณ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สี่เหลี่ยมผืนผ้า 4"/>
          <p:cNvSpPr/>
          <p:nvPr/>
        </p:nvSpPr>
        <p:spPr>
          <a:xfrm>
            <a:off x="533520" y="38862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4.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เป็นเครื่องมือในการส่งเสริม สนับสนุนให้การบริหา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00000"/>
                </a:solidFill>
                <a:latin typeface="Tahoma"/>
                <a:ea typeface="Tahoma"/>
              </a:rPr>
              <a:t>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จัดการมีคุณภาพได้มาตร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สี่เหลี่ยมผืนผ้า 5"/>
          <p:cNvSpPr/>
          <p:nvPr/>
        </p:nvSpPr>
        <p:spPr>
          <a:xfrm>
            <a:off x="533520" y="4962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3333ff"/>
                </a:solidFill>
                <a:latin typeface="Tahoma"/>
                <a:ea typeface="Tahoma"/>
              </a:rPr>
              <a:t>5.  </a:t>
            </a:r>
            <a:r>
              <a:rPr b="0" lang="th-TH" sz="2800" spc="-1" strike="noStrike">
                <a:solidFill>
                  <a:srgbClr val="3333ff"/>
                </a:solidFill>
                <a:latin typeface="Tahoma"/>
                <a:cs typeface="Tahoma"/>
              </a:rPr>
              <a:t>เกิดประสิทธิภาพและประสิทธิผล ได้รับความเชื่อถ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ตัวยึดหมายเลขภาพนิ่ง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96B-CE7D-466C-9713-9D0C588AFA39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000" y="420480"/>
            <a:ext cx="7345080" cy="865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Tahoma"/>
                <a:cs typeface="Tahoma"/>
              </a:rPr>
              <a:t>ความเสี่ยง 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(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Risk</a:t>
            </a:r>
            <a:r>
              <a:rPr b="1" lang="th-TH" sz="2800" spc="-1" strike="noStrike">
                <a:solidFill>
                  <a:srgbClr val="ffff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ความเสี่ยง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หมายถึงโอกาสที่จะเกิดความผิดพลาด ความเสียหาย การรั่วไหล ความสูญเปล่า หรือเหตุการณ์ที่ไม่พึงประสงค์ ที่ทำให้งานไม่ประสบผลสำเร็จตามวัตถุประสงค์และเป้าหมายที่กำหนด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c00000"/>
                </a:solidFill>
                <a:latin typeface="Tahoma"/>
                <a:cs typeface="Tahoma"/>
              </a:rPr>
              <a:t>มาตรฐาน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ฝ่ายบริหารต้องประเมินความเสี่ยงทั้งจากปัจจัยภายในและภายนอกที่มีผลกระทบต่อการบรรลุวัตถุประสงค์ของหน่วยรับตรวจอย่างเพียงพอและเหมาะส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380240" y="5950080"/>
            <a:ext cx="65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ที่มา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ahoma"/>
                <a:ea typeface="Tahoma"/>
              </a:rPr>
              <a:t>: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คู่มือการดำเนินงานการควบคุมภายในเพื่อพัฒนาคุณภาพการศึกษาฯ สพฐ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.,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cs typeface="Tahoma"/>
              </a:rPr>
              <a:t>๒๕๕๒</a:t>
            </a:r>
            <a:r>
              <a:rPr b="1" lang="th-TH" sz="1400" spc="-1" strike="noStrike">
                <a:solidFill>
                  <a:srgbClr val="ff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ตัวยึดหมายเลขภาพนิ่ง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D737-B123-4A71-91D0-1FE3130A2811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547200"/>
            <a:ext cx="6264360" cy="80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Tahoma"/>
                <a:cs typeface="Tahoma"/>
              </a:rPr>
              <a:t>ประเภทของ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8760" y="1773000"/>
            <a:ext cx="85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ลยุทธ์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Strategic 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ดำเนินงาน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perational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เงิน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 Financial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การปฏิบัติตามกฎหมาย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กฎระเบียบ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ompliance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ด้าน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Information Risk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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cs typeface="Tahoma"/>
              </a:rPr>
              <a:t>ความเสี่ยงจากภัยธรรมชาติ 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Natural Disaster Risk</a:t>
            </a:r>
            <a:r>
              <a:rPr b="0" lang="th-TH" sz="28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Copy of NVTech_wb023685"/>
          <p:cNvPicPr/>
          <p:nvPr/>
        </p:nvPicPr>
        <p:blipFill>
          <a:blip r:embed="rId2"/>
          <a:stretch/>
        </p:blipFill>
        <p:spPr>
          <a:xfrm>
            <a:off x="3714840" y="5214960"/>
            <a:ext cx="1114200" cy="1038240"/>
          </a:xfrm>
          <a:prstGeom prst="rect">
            <a:avLst/>
          </a:prstGeom>
          <a:ln w="0">
            <a:noFill/>
          </a:ln>
        </p:spPr>
      </p:pic>
      <p:sp>
        <p:nvSpPr>
          <p:cNvPr id="79" name="ตัวยึดหมายเลขภาพนิ่ง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6FB-401B-49FB-A9AB-16F8C02B73B8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9040"/>
            <a:ext cx="8229600" cy="922320"/>
          </a:xfrm>
          <a:prstGeom prst="rect">
            <a:avLst/>
          </a:prstGeom>
          <a:solidFill>
            <a:srgbClr val="a1f4f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ahoma"/>
                <a:cs typeface="Tahoma"/>
              </a:rPr>
              <a:t>แหล่งที่มาของความเสี่ย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95280" y="1770120"/>
            <a:ext cx="2592360" cy="459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ภายนอ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796000" y="1841400"/>
            <a:ext cx="2952720" cy="459720"/>
          </a:xfrm>
          <a:prstGeom prst="rect">
            <a:avLst/>
          </a:prstGeom>
          <a:solidFill>
            <a:srgbClr val="cc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ff"/>
                </a:solidFill>
                <a:latin typeface="Tahoma"/>
                <a:ea typeface="Tahoma"/>
              </a:rPr>
              <a:t>    </a:t>
            </a:r>
            <a:r>
              <a:rPr b="1" lang="th-TH" sz="2400" spc="-1" strike="noStrike">
                <a:solidFill>
                  <a:srgbClr val="ffffff"/>
                </a:solidFill>
                <a:latin typeface="Tahoma"/>
                <a:cs typeface="Tahoma"/>
              </a:rPr>
              <a:t>ปัจจัยภายใ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2781360"/>
            <a:ext cx="8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16000" y="3095640"/>
            <a:ext cx="262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ศรษฐกิจ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สังค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ารเมือง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/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ผู้รับบริ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เทคโนโลย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ภัยธรรมชาติ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581800" y="2997360"/>
            <a:ext cx="352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่านิยม วัฒนธรรมองค์กร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ความรู้ ความสามาร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องบุคลาก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กระบวนการทำ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BrowalliaUPC"/>
              </a:rPr>
              <a:t>□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ahoma"/>
                <a:cs typeface="Tahoma"/>
              </a:rPr>
              <a:t>ข้อมูล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132000" y="2494080"/>
            <a:ext cx="2376720" cy="3095640"/>
          </a:xfrm>
          <a:prstGeom prst="rect">
            <a:avLst/>
          </a:prstGeom>
          <a:solidFill>
            <a:srgbClr val="fda1eb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สพป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สพม</a:t>
            </a:r>
            <a:r>
              <a:rPr b="1" lang="th-TH" sz="4000" spc="-1" strike="noStrike">
                <a:solidFill>
                  <a:srgbClr val="000000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ศูนย์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ahoma"/>
                <a:cs typeface="Tahoma"/>
              </a:rPr>
              <a:t>โรงเรีย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 rot="5400000">
            <a:off x="1310760" y="2512800"/>
            <a:ext cx="544320" cy="360360"/>
          </a:xfrm>
          <a:custGeom>
            <a:avLst/>
            <a:gdLst>
              <a:gd name="textAreaLeft" fmla="*/ 0 w 544320"/>
              <a:gd name="textAreaRight" fmla="*/ 544680 w 544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 rot="5400000">
            <a:off x="7143480" y="2512800"/>
            <a:ext cx="544320" cy="360360"/>
          </a:xfrm>
          <a:custGeom>
            <a:avLst/>
            <a:gdLst>
              <a:gd name="textAreaLeft" fmla="*/ 0 w 544320"/>
              <a:gd name="textAreaRight" fmla="*/ 544680 w 5443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176840" y="5264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ฯล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958440" y="52642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ฯล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7501320" y="6292800"/>
            <a:ext cx="138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สมมาต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cs typeface="Tahoma"/>
              </a:rPr>
              <a:t>๒๕๕๔</a:t>
            </a:r>
            <a:r>
              <a:rPr b="1" lang="th-TH" sz="1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ตัวยึดหมายเลขภาพนิ่ง 1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EE20-1413-47A7-B100-731554B88FAC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5:49:38Z</dcterms:created>
  <dc:creator>user</dc:creator>
  <dc:description/>
  <dc:language>en-US</dc:language>
  <cp:lastModifiedBy>kobchai</cp:lastModifiedBy>
  <dcterms:modified xsi:type="dcterms:W3CDTF">2012-07-18T06:04:29Z</dcterms:modified>
  <cp:revision>23</cp:revision>
  <dc:subject/>
  <dc:title>ภาพนิ่ง 1</dc:title>
</cp:coreProperties>
</file>